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875E-AFE5-4EA7-8662-192CBDCE4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5ED5-E411-424A-B07E-1A45560E7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7828-7F86-4714-9132-A162D3736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4C91-1809-476F-BB98-CBCDEB709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CE705-8CF2-4C23-A0F5-5F1096F83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D82E7-0548-477E-B585-BB15FCB11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3442C-7E06-40DA-B4DD-FE8069F8F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F4529-1F29-41F6-9128-0300D71AA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3CAFE-9C4D-4627-BFC2-C0E0888C2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FC65E-322E-4538-ABBB-AF2B3FA69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59F1B-7EB6-4DB4-9C19-3EB31F309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5FF5-EB0C-433A-99B3-414D151CC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3E650-6613-42E2-8C46-C21F4AC50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A0291-34DE-47DB-8FD1-81D270BBA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878C3-B058-41DF-A228-FCC2DA395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3CB52-DBD2-48F7-ACFD-05FE8DE7F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C2352-F841-40C6-A001-187AA5D43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0C36-6D50-42BE-8737-A59FE1CA0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4544-D3AD-44D6-9217-1684E0D7A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9FB8-9AC9-41AB-9DCF-39E6544FD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4BE5-4483-453B-9A40-CF948E9AA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8B34-174D-423A-B243-9D280E868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6088-ACF8-41EA-9CCD-278C929C8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C844-B90D-49EE-B6DB-0EEC24032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43FC1-9FA6-4B89-86F4-EA604B722DB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5F672-3FF2-4C16-982B-9ABB8D32B21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7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장 행동관리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645000"/>
            <a:ext cx="64008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고전행동주의와 신행동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과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-S (ABC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수정의 관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거 또는 증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성취동기 향상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상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칭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흥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동기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효능감과 귀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행동수정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한 행동의 증가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토큰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할머니 법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emark Principl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계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하지 못한 행동의 감소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소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대책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학급관리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의 물리적 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조 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좌석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생활 규칙 제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질문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?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979640" y="1844640"/>
            <a:ext cx="47530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0T03:46:38Z</dcterms:created>
  <dc:creator>.</dc:creator>
  <dc:description/>
  <dc:language>en-US</dc:language>
  <cp:lastModifiedBy>f</cp:lastModifiedBy>
  <dcterms:modified xsi:type="dcterms:W3CDTF">2007-05-02T01:29:10Z</dcterms:modified>
  <cp:revision>9</cp:revision>
  <dc:subject/>
  <dc:title>제 7장 체육교육과정</dc:title>
</cp:coreProperties>
</file>